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B46-4A81-4A1E-A99D-667A470D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54E-5C5C-4DE6-910D-0A5EBDB1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3824-F51B-4F79-84E9-2BA1E38D6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E557-8536-422D-BC62-DE509048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846B-F6CE-4FE0-BB20-5CEA5DEA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B670-CCC7-48A7-B5DF-9F59CEC0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6DD7-584A-4688-8105-98B85F4F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B40C-6702-4EF4-A160-5551ACF8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C82C-32B8-431B-8599-31A0DD45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65F4-22FB-43EE-B2ED-6BE34C42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DACA-9C9C-4A8D-A8F9-E1F36ADF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00B6-A630-4105-91F3-15AAD77E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7135-10A3-4D23-B34A-272FD464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9107-7458-4FFC-A391-74FD7BB3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BA9C-1117-4772-A0F2-76FF5CBB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8FA4-2B1D-42BB-8B35-F42E0BF8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9D9A-A9BE-480B-8229-C0B6733E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8D1-10CF-4A34-9176-0AEDBD98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26B-6024-49AF-ABCB-900F4BAA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781-0977-4D19-9306-F40E293C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2F9-140E-4AC0-AF8C-2BEDACFE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E866-E2FC-409C-A05D-8E4C416D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29A7-26FC-47AA-83CE-194431F1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2D9-A4A8-42A3-9716-667C79FE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99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0033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022D-FFCE-47B4-968B-15E2FBE7F916}" type="slidenum">
              <a:rPr b="0" lang="ro-RO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979F-36D1-4866-B2C3-646D73BE8CAE}" type="slidenum">
              <a:rPr b="0" lang="ro-RO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o.wikipedia.org/wiki/Mediu_activ,_laser" TargetMode="External"/><Relationship Id="rId2" Type="http://schemas.openxmlformats.org/officeDocument/2006/relationships/hyperlink" Target="http://ro.wikipedia.org/wiki/Solid" TargetMode="External"/><Relationship Id="rId3" Type="http://schemas.openxmlformats.org/officeDocument/2006/relationships/hyperlink" Target="http://ro.wikipedia.org/wiki/Lichid" TargetMode="External"/><Relationship Id="rId4" Type="http://schemas.openxmlformats.org/officeDocument/2006/relationships/hyperlink" Target="http://ro.wikipedia.org/wiki/Gaz" TargetMode="External"/><Relationship Id="rId5" Type="http://schemas.openxmlformats.org/officeDocument/2006/relationships/hyperlink" Target="http://ro.wikipedia.org/w/index.php?title=Cavitate_optic&#259;&amp;action=edit&amp;redlink=1" TargetMode="External"/><Relationship Id="rId6" Type="http://schemas.openxmlformats.org/officeDocument/2006/relationships/hyperlink" Target="http://ro.wikipedia.org/wiki/Electron" TargetMode="External"/><Relationship Id="rId7" Type="http://schemas.openxmlformats.org/officeDocument/2006/relationships/hyperlink" Target="http://ro.wikipedia.org/wiki/Atom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7240" y="2039760"/>
            <a:ext cx="722016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f193"/>
                </a:solidFill>
                <a:latin typeface="Book Antiqua"/>
              </a:rPr>
              <a:t>EFECTUL LAS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ounded Rectangle 2"/>
          <p:cNvSpPr/>
          <p:nvPr/>
        </p:nvSpPr>
        <p:spPr>
          <a:xfrm>
            <a:off x="395280" y="404640"/>
            <a:ext cx="4738680" cy="1643400"/>
          </a:xfrm>
          <a:prstGeom prst="roundRect">
            <a:avLst>
              <a:gd name="adj" fmla="val 16667"/>
            </a:avLst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ff193"/>
                </a:solidFill>
                <a:latin typeface="Book Antiqua"/>
              </a:rPr>
              <a:t>Efectul </a:t>
            </a:r>
            <a:r>
              <a:rPr b="1" lang="ro-RO" sz="5000" spc="-1" strike="noStrike">
                <a:solidFill>
                  <a:srgbClr val="eff193"/>
                </a:solidFill>
                <a:latin typeface="Arial"/>
              </a:rPr>
              <a:t>LASER</a:t>
            </a:r>
            <a:endParaRPr b="0" lang="en-US" sz="5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2" name="Rounded Rectangle 2"/>
          <p:cNvSpPr/>
          <p:nvPr/>
        </p:nvSpPr>
        <p:spPr>
          <a:xfrm>
            <a:off x="152280" y="2209680"/>
            <a:ext cx="8839440" cy="4419720"/>
          </a:xfrm>
          <a:prstGeom prst="roundRect">
            <a:avLst>
              <a:gd name="adj" fmla="val 16667"/>
            </a:avLst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Laserul este un dispozitiv optic care generează un fascicul coerent de lumină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Fasciculele laser au mai multe proprietăţi care le diferenţiază de lumina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incoerentă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produsă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de exemplu de Soare sau de becul cu incandescenţă: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monocromaticitate 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un spectru în general foarte îngust de lungimi de undă;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direcţionalitate 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proprietatea de a se propaga pe distanţe mari cu o divergenţă foarte mică şi, ca urmare, capacitatea de a fi focalizate pe o arie foarte mică;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intensitate 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unii laseri 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su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nt suficient de puternici pentru a fi folosiţi la tăierea metalelor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- coerenţa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- strălucire mare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La origine termenul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laser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este acronimul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LASER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format în limba engleză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de la denumirea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light amplification by stimulated emission of radiation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(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amplificare a luminii prin stimularea emisiunii radiaţiei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), denumire construită pe modelul termenului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maser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care înseamnă un dispozitiv similar, funcţionând în domeniul microundelor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17600" y="304560"/>
            <a:ext cx="78264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Principiul functionarii laserului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Rounded Rectangle 2"/>
          <p:cNvSpPr/>
          <p:nvPr/>
        </p:nvSpPr>
        <p:spPr>
          <a:xfrm>
            <a:off x="1042920" y="1413000"/>
            <a:ext cx="3733920" cy="464796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4647960"/>
              <a:gd name="textAreaBottom" fmla="*/ 4465800 h 4647960"/>
            </a:gdLst>
            <a:ahLst/>
            <a:rect l="textAreaLeft" t="textAreaTop" r="textAreaRight" b="textAreaBottom"/>
            <a:pathLst>
              <a:path w="21600" h="26887">
                <a:moveTo>
                  <a:pt x="3600" y="0"/>
                </a:moveTo>
                <a:arcTo wR="3600" hR="3600" stAng="16200000" swAng="-5400000"/>
                <a:lnTo>
                  <a:pt x="0" y="23287"/>
                </a:lnTo>
                <a:arcTo wR="3600" hR="3600" stAng="10800000" swAng="-5400000"/>
                <a:lnTo>
                  <a:pt x="18000" y="268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Laserul este un dispozitiv complex ce utilizează un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1"/>
              </a:rPr>
              <a:t>mediu activ laser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, ce poate fi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2"/>
              </a:rPr>
              <a:t>solid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3"/>
              </a:rPr>
              <a:t>lichid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sau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4"/>
              </a:rPr>
              <a:t>gazos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, şi o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5"/>
              </a:rPr>
              <a:t>cavitate optică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rezonantă. Mediul activ, cu o compoziţie şi parametri determinaţi, primeşte energie din exterior prin ceea ce se numeşte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pompare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. Pomparea se poate realiza electric sau optic, folosind o sursă de lumină (flash, alt laser etc.) şi duce la excitarea atomilor din mediul activ, adică aducerea unora din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6"/>
              </a:rPr>
              <a:t>electronii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din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7"/>
              </a:rPr>
              <a:t>atomii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mediului pe niveluri de energie superioare.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5" name="Rounded Rectangle 2"/>
          <p:cNvSpPr/>
          <p:nvPr/>
        </p:nvSpPr>
        <p:spPr>
          <a:xfrm>
            <a:off x="5508720" y="4365720"/>
            <a:ext cx="3200400" cy="1828800"/>
          </a:xfrm>
          <a:prstGeom prst="roundRect">
            <a:avLst>
              <a:gd name="adj" fmla="val 16667"/>
            </a:avLst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Faţă de un mediu aflat în echilibru termic, acest mediu pompat ajunge să aibă mai mulţi electroni pe stările de energie superioare, fenomen numit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inversie de populaţie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ounded Rectangle 2"/>
          <p:cNvSpPr/>
          <p:nvPr/>
        </p:nvSpPr>
        <p:spPr>
          <a:xfrm>
            <a:off x="395280" y="692280"/>
            <a:ext cx="5929200" cy="1643040"/>
          </a:xfrm>
          <a:prstGeom prst="roundRect">
            <a:avLst>
              <a:gd name="adj" fmla="val 16667"/>
            </a:avLst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f193"/>
                </a:solidFill>
                <a:latin typeface="Book Antiqua"/>
              </a:rPr>
              <a:t>Caracteristicile fasciculului laser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Rounded Rectangle 2"/>
          <p:cNvSpPr/>
          <p:nvPr/>
        </p:nvSpPr>
        <p:spPr>
          <a:xfrm>
            <a:off x="684360" y="3573360"/>
            <a:ext cx="6933960" cy="2590920"/>
          </a:xfrm>
          <a:prstGeom prst="roundRect">
            <a:avLst>
              <a:gd name="adj" fmla="val 16667"/>
            </a:avLst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eff1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193"/>
                </a:solidFill>
                <a:latin typeface="Book Antiqua"/>
              </a:rPr>
              <a:t>Intensit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eff1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193"/>
                </a:solidFill>
                <a:latin typeface="Book Antiqua"/>
              </a:rPr>
              <a:t>Monocromaticit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eff1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193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eff193"/>
                </a:solidFill>
                <a:latin typeface="Book Antiqua"/>
              </a:rPr>
              <a:t>Directionalit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5:15:15Z</dcterms:created>
  <dc:creator>Andreea</dc:creator>
  <dc:description/>
  <dc:language>en-US</dc:language>
  <cp:lastModifiedBy>AS</cp:lastModifiedBy>
  <dcterms:modified xsi:type="dcterms:W3CDTF">2010-01-07T18:32:04Z</dcterms:modified>
  <cp:revision>35</cp:revision>
  <dc:subject/>
  <dc:title>Puterea Brandului Internaţional. </dc:title>
</cp:coreProperties>
</file>